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5391-94F2-479C-9226-2B1F4ED1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5A73-1433-4FD5-8724-44CF421A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8D70-B5E7-4CDF-AFB2-7B3AAD044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15D7-B8A6-44F9-AC12-66047585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9241-7A09-4185-85EA-ABFEBA9C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E052-8061-48AD-A4EC-EA9D749E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799E-E96C-4D4B-A8E6-FB501650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84B1-6B0A-4660-BB98-0572DD59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8287-B920-45B1-810F-96DE0B60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E62A-CE23-4C63-AD85-B140380C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25F4-72BD-4116-B04B-7DCB604D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EB46-24A9-490B-B7C3-09FFDF04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FF47-2875-46B5-BDDC-5424FF1EF3B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000" y="4581000"/>
            <a:ext cx="446544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8000" y="5516280"/>
            <a:ext cx="4176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85840" y="5857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besat3-1</cp:lastModifiedBy>
  <dcterms:modified xsi:type="dcterms:W3CDTF">2016-04-11T11:41:59Z</dcterms:modified>
  <cp:revision>606</cp:revision>
  <dc:subject/>
  <dc:title>Diapositiva 1</dc:title>
</cp:coreProperties>
</file>