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6F07-7EEE-4396-9461-AF41151E759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B649-B392-4E4E-BEE1-543C937177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5515-B86D-4240-8496-C8D0A469309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CF7A-A505-4B4F-B7BD-9EF023AA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806D-499C-482A-8F81-3A492A1A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104C-18C0-427C-867F-290BF644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A09-AF22-45A2-AF2E-73509686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892-3C75-4FDD-B5A4-D463634E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D16F-D737-483E-8587-4DB04A41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137-DB49-414B-992F-4758A7AE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923C-E74C-410C-9F70-EE4EF016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887-0214-4B2E-BE1C-D370A9C9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C707-8F2F-4E17-B3A2-00AEE238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0A4B-6FA6-4033-8229-9B724F69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18F-C189-493D-926C-5716BBD4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B9EA-CE2E-405E-9DC3-207345475E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213000"/>
            <a:ext cx="424800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57120" y="439884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686800" cy="4697280"/>
          </a:xfrm>
          <a:prstGeom prst="rect">
            <a:avLst/>
          </a:prstGeom>
          <a:ln w="0">
            <a:noFill/>
          </a:ln>
        </p:spPr>
      </p:pic>
      <p:sp>
        <p:nvSpPr>
          <p:cNvPr id="7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686800" cy="4697280"/>
          </a:xfrm>
          <a:prstGeom prst="rect">
            <a:avLst/>
          </a:prstGeom>
          <a:ln w="0">
            <a:noFill/>
          </a:ln>
        </p:spPr>
      </p:pic>
      <p:sp>
        <p:nvSpPr>
          <p:cNvPr id="80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285560"/>
            <a:ext cx="8400960" cy="484020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229600" cy="4697280"/>
          </a:xfrm>
          <a:prstGeom prst="rect">
            <a:avLst/>
          </a:prstGeom>
          <a:ln w="0">
            <a:noFill/>
          </a:ln>
        </p:spPr>
      </p:pic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besat3</cp:lastModifiedBy>
  <dcterms:modified xsi:type="dcterms:W3CDTF">2013-01-11T05:23:35Z</dcterms:modified>
  <cp:revision>61</cp:revision>
  <dc:subject/>
  <dc:title>TITLE</dc:title>
</cp:coreProperties>
</file>