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F31F-A6BA-4B99-8486-6F92EB0B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9CD-3DF8-4BCC-BE2D-B1185895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412-81A7-4792-9956-1592A3E0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2A3-C6AF-4B94-BF03-3EDDD415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1D6-64BB-45CA-BE3B-0D1CB4B4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97F-0CF8-456D-B937-B840192D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E694-E1E4-4F9D-805F-B3CE466F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E43E-F7A0-4C35-91F2-FF389F8D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0DBF-50AE-4EE4-86F8-60E56990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93C-1545-4528-A613-397E6ADD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04E-C18B-4269-A1A4-587C7059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319-9EB5-4817-90DB-9F0E7590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E341-5D54-4E11-B088-0221752FDC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444640"/>
            <a:ext cx="583236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Lucida Handwriting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397400" y="1052640"/>
            <a:ext cx="4371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72240" y="164304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72240" y="2214720"/>
            <a:ext cx="121464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72240" y="335772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72240" y="392904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72240" y="450072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72240" y="507204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72240" y="278604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3882960" y="1052640"/>
            <a:ext cx="48862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00960" y="1500120"/>
            <a:ext cx="1357200" cy="571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00960" y="2071800"/>
            <a:ext cx="1357200" cy="57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00960" y="3214800"/>
            <a:ext cx="1357200" cy="57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00960" y="3786120"/>
            <a:ext cx="1357200" cy="571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00960" y="4357800"/>
            <a:ext cx="1357200" cy="57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00960" y="4929120"/>
            <a:ext cx="1357200" cy="571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00960" y="2643120"/>
            <a:ext cx="1357200" cy="5716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3882960" y="1165320"/>
            <a:ext cx="48862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00960" y="1643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00960" y="22147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00960" y="3357720"/>
            <a:ext cx="135720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00960" y="3929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00960" y="45007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00960" y="5072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00960" y="2786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397400" y="1052640"/>
            <a:ext cx="4371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72240" y="157176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72240" y="214308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72240" y="328608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72240" y="3857760"/>
            <a:ext cx="121464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72240" y="442908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72240" y="500076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72240" y="271476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</cp:lastModifiedBy>
  <dcterms:modified xsi:type="dcterms:W3CDTF">2013-01-14T09:14:40Z</dcterms:modified>
  <cp:revision>598</cp:revision>
  <dc:subject/>
  <dc:title>Diapositiva 1</dc:title>
</cp:coreProperties>
</file>