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F78A-5C74-49B7-B855-0032C1B02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5FD7-3BF0-4B82-A938-3D07B0A7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D87B-CFC7-4D7B-A0FD-B6C53873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873D-4A17-4B0A-B0A0-CCE7F39E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FD81-9133-4B25-ABEF-D5308D1A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8F5A-0E7D-4411-8C7F-1CEF335A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42F9-CB21-4F6D-8580-B6AAB499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E9B9-2EF1-4243-8C67-5374EFD7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D190-F8B7-41C5-BE2F-D15C3F76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0F7F-7939-49CA-A4E7-9BDAAD44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B920-31DE-495D-8BCA-917A43FD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E084-A7F7-4C30-9137-DE53A7DB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83EB-F659-4BA3-983D-0E65E542202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5445000"/>
            <a:ext cx="525636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9"/>
          <p:cNvSpPr/>
          <p:nvPr/>
        </p:nvSpPr>
        <p:spPr>
          <a:xfrm>
            <a:off x="5435640" y="5516640"/>
            <a:ext cx="34574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4321080" y="4881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3-06T08:44:19Z</dcterms:modified>
  <cp:revision>864</cp:revision>
  <dc:subject/>
  <dc:title>Diapositiva 1</dc:title>
</cp:coreProperties>
</file>