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BF9-3E89-43CC-B74A-974A0E8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83B-416E-4106-8A33-F128588C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E58-A363-482F-8FF4-1CD47AC7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0DE-F1F7-49EF-B8E3-C7E67A5B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693-3CB2-458F-B9D3-FBD1B454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8B0-32C4-4275-AE9F-05F57C68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717-D0AB-40DA-A076-1601A715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62D-79A8-4158-A3EA-D1A39330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685-130F-4E2D-9901-91B0AE44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5F2-E973-4F8B-8F2F-B17806D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847-243C-4BD6-A293-201DF0C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F80-6EA7-4DE6-B889-E403518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7BA-5739-488D-AD5E-E6E793DC6E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85228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00"/>
                </a:solidFill>
                <a:latin typeface="Arial"/>
              </a:rPr>
              <a:t>Presentation Tit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48436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45:08Z</dcterms:modified>
  <cp:revision>731</cp:revision>
  <dc:subject/>
  <dc:title>Diapositiva 1</dc:title>
</cp:coreProperties>
</file>