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50D-BA5C-4B12-8A73-C9A4B74D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924-7458-4623-B027-63ABD5D0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7DA-3EE0-4E0A-AADA-87FEA241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451-8A41-4E27-B0B9-F6CADDC3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3DA-23F6-4E77-919F-E1AC22FE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874-01AC-4564-BC07-74DE758D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DFB-0D2C-41A9-8C24-BC6C4CA3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15A-7D47-4908-AF62-84C4FF88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AF0-7281-4E0A-A364-86C8A347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ABD-3898-4F3F-8850-A0EB3086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68E-7249-47CC-8CDF-B3C013F5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C53-0F52-4619-BD34-4AA77C50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C6D9-E850-4D4E-B826-5092923466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00008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05:06Z</dcterms:modified>
  <cp:revision>121</cp:revision>
  <dc:subject/>
  <dc:title>Diapositiva 1</dc:title>
</cp:coreProperties>
</file>