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D04-F747-4556-A94C-2E0137C7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78C-7EAA-485C-AB9B-24832CC3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3F2-45C0-466E-AA26-09CF8FC8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95D-2ECF-4C77-AE61-9EAFC7A0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864-9757-436A-9F0A-C9D89FF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959-15FD-4B64-8D7D-FC473B4B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9EF-8D28-4CBE-AC15-1AB5C8D6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EDD-6B93-48D8-A1E3-08F7997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1B1-E5E2-4006-BFC9-8F826309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4A5-D5B3-4186-A646-3DFB2163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72E-247B-45F4-8C4A-EE314817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635-0CD1-45D7-BF3D-17FC74C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E26E-0EC3-411F-9FF2-F41A766B19E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3357720"/>
            <a:ext cx="43927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7"/>
          <p:cNvSpPr/>
          <p:nvPr/>
        </p:nvSpPr>
        <p:spPr>
          <a:xfrm>
            <a:off x="468360" y="4076640"/>
            <a:ext cx="34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858000" y="471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371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1464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1464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950760"/>
            <a:ext cx="4628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42884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0016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14316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1484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286160"/>
            <a:ext cx="1285560" cy="5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857840"/>
            <a:ext cx="1285560" cy="5713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571840"/>
            <a:ext cx="1285560" cy="57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</cp:lastModifiedBy>
  <dcterms:modified xsi:type="dcterms:W3CDTF">2013-01-12T04:57:29Z</dcterms:modified>
  <cp:revision>717</cp:revision>
  <dc:subject/>
  <dc:title>Diapositiva 1</dc:title>
</cp:coreProperties>
</file>