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1AD-F4FB-4813-93E2-91B230CA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DA6-B57E-4B29-822C-3B53D767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CCD-8869-4E33-B356-EEFF6E29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7B9-7B26-440B-A9A3-4409BCF5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3EE-1647-421C-BF54-C2878648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C93-3304-4556-9725-EC497E3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EB3-58E5-4788-86B4-4A36D086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3E3-4CBA-4290-A5B1-C683BFB8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DE3-34DC-4194-958E-8E3D62B5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E94-52D1-499D-9834-4CDDFC9D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C63-FEBD-485B-A021-258C248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1D1-0DE0-493C-8DC0-228345D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991B-97BA-4F80-8086-6C5334F794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8920" y="508464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5805360"/>
            <a:ext cx="4319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33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900000" y="548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13:02Z</dcterms:modified>
  <cp:revision>595</cp:revision>
  <dc:subject/>
  <dc:title>Diapositiva 1</dc:title>
</cp:coreProperties>
</file>