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922A-ACE1-425E-8103-5E3E6625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ACA-94FA-49F6-9BF6-730A0C23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EF8E-CD9B-4F63-800E-CD928895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830-8D2F-4A9A-87CD-D9E3D7C4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515-F014-4245-BE62-A3F0E3BC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3E4-BEB4-4319-B1E5-8A002294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0A0-3AEA-4205-B568-5EA3C0C0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9553-5880-489E-9662-C62E09E7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198-F826-43AF-B342-245A3165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77FD-DD46-43A3-AAC5-0B2D6593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D45-4EE9-4451-9E75-7EB63B54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023D-3F62-48D4-B9D8-7FF700F0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9E35-D068-4754-85EB-DB4FF670BA9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90560" y="3499920"/>
            <a:ext cx="453708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92000" y="4101840"/>
            <a:ext cx="5000760" cy="47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987640" y="573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4-06T05:31:48Z</dcterms:modified>
  <cp:revision>571</cp:revision>
  <dc:subject/>
  <dc:title>Diapositiva 1</dc:title>
</cp:coreProperties>
</file>