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C386-6B13-4BD1-A8F0-9E27B147F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3214-E7BE-4DD4-8C32-0A3ECD5B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7D3C-A7FE-46E4-911F-7B50D5AC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BC1C-611B-4F14-B93F-CF3C6E557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26C3-A7A9-463D-9FF4-FD0BD164A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19D2-66B3-457E-B1CE-EC2288FF2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8984-051C-4597-BE02-53FEB56E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DABA-22E9-4967-9DF5-0C7FECD1A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49EF-B02D-4736-B57C-798B2961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DB0C-FEC0-44F7-81A9-C6392052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5F71-EE4E-4E54-94B2-65655994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50F9-AD2A-465A-AEC6-4ACFB32E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C49A2-76BA-48F8-9BED-0D55AA0D4EC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19280" y="2707920"/>
            <a:ext cx="374508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9"/>
          <p:cNvSpPr/>
          <p:nvPr/>
        </p:nvSpPr>
        <p:spPr>
          <a:xfrm>
            <a:off x="5219640" y="3389400"/>
            <a:ext cx="316728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5857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3882960" y="1052640"/>
            <a:ext cx="48862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429680" y="164304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429680" y="2214720"/>
            <a:ext cx="135720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429680" y="335772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429680" y="392904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429680" y="450072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429680" y="507204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429680" y="278604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3882960" y="1052640"/>
            <a:ext cx="48862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00960" y="150012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00960" y="207180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00960" y="321480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00960" y="378612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00960" y="435780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00960" y="4929120"/>
            <a:ext cx="135720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00960" y="2643120"/>
            <a:ext cx="135720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esat3-1</cp:lastModifiedBy>
  <dcterms:modified xsi:type="dcterms:W3CDTF">2016-04-11T15:27:45Z</dcterms:modified>
  <cp:revision>610</cp:revision>
  <dc:subject/>
  <dc:title>Diapositiva 1</dc:title>
</cp:coreProperties>
</file>