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DE8-9C87-422F-9DEF-C055F31E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195-20F0-4D89-A5B2-A3E7BD1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DB7-04E7-4FE3-B1BE-59D5A703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FEE-6AD7-443C-978A-CB548108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75E-B348-4A30-A0BD-18F1B75D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728-0D0F-4ECE-93A9-C8E9E29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EDF-33A9-4F4B-A8E4-0234D037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1FF-0EEC-4014-B55B-A3267A79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84C-B1B7-4958-8116-7E286CB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FE2-4852-4925-8A6E-D1A86BC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8A2-FEC3-41D9-B689-F681A0BF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684-EBF1-4B6B-8A86-3D8B411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990-4C9F-431C-8B34-5DB5966CC6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1187280" y="1557360"/>
            <a:ext cx="66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522440"/>
            <a:ext cx="4628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2000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571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714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4286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857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5429160"/>
            <a:ext cx="1285560" cy="571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3143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5:01:01Z</dcterms:modified>
  <cp:revision>809</cp:revision>
  <dc:subject/>
  <dc:title>Diapositiva 1</dc:title>
</cp:coreProperties>
</file>