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E8BA-3B6A-4269-B5E0-ED8AEA643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B68E-D00B-450A-A3F8-8CCCE109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B1E5-FE42-41A5-A9A7-8F3A4F635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6DCE-4F6A-4EC9-A41D-23119D9BE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42E6-F311-4654-9C19-813EAD9F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3260-C185-4276-AD4E-952F1943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54D9-2A8A-408F-A1A5-590C3C49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6DE8-606C-439B-AD76-ABCDE1E1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C0A5-F2F3-42DB-B3B3-EB00ED9F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AB2C-25AB-4326-AA6D-4843E4BD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2B4D-86AF-4924-8507-B2C21A49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BA9F-BFA5-4570-AFB2-37E93882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5293-9184-4677-BF82-8032E2AFA59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3640" y="2707920"/>
            <a:ext cx="5254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1042920" y="5661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50920" y="274680"/>
            <a:ext cx="8569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sys</cp:lastModifiedBy>
  <dcterms:modified xsi:type="dcterms:W3CDTF">2016-04-06T05:31:16Z</dcterms:modified>
  <cp:revision>53</cp:revision>
  <dc:subject/>
  <dc:title>Texto</dc:title>
</cp:coreProperties>
</file>