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FC24-7BBA-4E6D-8C2F-6EE3D80C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B7E2-584E-4B4E-A1EE-DADA5EE9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D3D0-E85C-4844-8862-191A10C3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AFBE-7255-4DD3-8A6C-F5049D97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F6D4-DEE2-4078-9095-1C4AE8F3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DDB3-5F47-425A-888A-929262F5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BCB3-9831-42C1-9A72-4D09DA98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CD0D-3C0A-4BF1-805A-E7CA7DF8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F3E9-9C3D-4000-8409-03AB0495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6032-9E29-4455-BE87-CB18092A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46B-20D3-4366-87AC-066F094C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100-9994-40A4-B450-B04FD46B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16DC-F25A-448B-A26A-A9CCB18DE4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Sub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5486400" y="544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sys</cp:lastModifiedBy>
  <dcterms:modified xsi:type="dcterms:W3CDTF">2016-04-06T05:13:23Z</dcterms:modified>
  <cp:revision>17</cp:revision>
  <dc:subject/>
  <dc:title>Diapositiva 1</dc:title>
</cp:coreProperties>
</file>