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432-EDF5-4DE8-8EE8-58D198A9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75B-08AC-4C71-A766-19B0D3E9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3229-4D50-4AA6-8366-AB55CD9F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CE81-683E-4EF1-B722-BE201920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0AE-1868-4FD8-8E39-A1B881E1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2B2D-8B06-4A65-8143-B94B2052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E83-3E02-4E4F-B669-9D86CE6E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995-1909-4D38-A81F-FC3948FE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60B-2EE0-4660-9460-9576C4CE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B56-20D4-4712-8504-019183AF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371-AD55-4A38-91BE-5E2A5D12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3D1-0DA0-4285-9BC1-23D861E4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D2FB-B64F-4FD3-A048-67916CF928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68360" y="5805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4:27:19Z</dcterms:modified>
  <cp:revision>330</cp:revision>
  <dc:subject/>
  <dc:title>Diapositiva 1</dc:title>
</cp:coreProperties>
</file>