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810-C4C3-4CBD-9FBB-98AC8379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5C8-D5C6-4684-9950-9CDB2215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07A-45DC-4053-BF8C-DAB0FD28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4A0-1BF2-4604-BC98-1259D51E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ED9-00EF-4C97-8466-81A08D6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A88-B1FD-4A28-A5E3-A245970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FBE-9FE5-446E-A836-1927D031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F10-9182-4487-942D-4BC182E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DAC-90CA-46E8-B6A1-26D67266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882-29FF-4E24-BFCD-153C43F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C81-7976-4FCE-83E6-764C63C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DA9-9579-42DA-8542-11B654D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AF03-E138-421F-9E6F-CB8D329C5D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453384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42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308240"/>
            <a:ext cx="46288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78596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35728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50028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407196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64328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5214960"/>
            <a:ext cx="1285560" cy="571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92896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5:01:04Z</dcterms:modified>
  <cp:revision>359</cp:revision>
  <dc:subject/>
  <dc:title>Diapositiva 1</dc:title>
</cp:coreProperties>
</file>