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E1F-70E9-4BD1-943A-5017A14F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5CE-DD3A-4B1E-8002-F6FB284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B0F-D27A-441E-AE3B-D773ADF5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788-C5EA-43B1-8774-D93F4212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DCE-180C-486E-B0AD-BA409860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2F8-1768-45CD-B866-F617999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03F-9A26-4718-BA58-9FAC977A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413-D38D-4CCA-868C-FB9D390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830-9FBA-4DBA-B9A6-4A0009AE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22C-FFD4-4187-8F49-AE67EAA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6F1-1AF7-4073-B2C3-7BF4652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9BA-D53D-4047-A076-FAA7BD5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5E6-8653-4FEB-BECB-C0EA71EBC8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2565000"/>
            <a:ext cx="7344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6160" y="3213000"/>
            <a:ext cx="6048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05092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29:45Z</dcterms:modified>
  <cp:revision>546</cp:revision>
  <dc:subject/>
  <dc:title>Diapositiva 1</dc:title>
</cp:coreProperties>
</file>