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9628-B46C-49CD-A4BD-E9E70AF96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66E-9657-4435-B087-AADDAB44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C615-9882-4DCC-BE3A-E12C7C58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795-B73B-42D3-818B-F2D82474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8DDF-418D-4F06-ACBD-8D053D62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7DCB-8F3B-4934-AB6C-9AF266DF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865B-F277-4E9D-AEDA-F8714465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7127-3BEC-447C-87AA-BDA45A6B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1C58-E5BC-4924-B10D-636EA46F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98DE-9050-4DF5-A80A-7BAA396A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AD8-5BE3-485A-9D1C-46360845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914A-AB3C-47FC-AA86-256C3DBA1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6F11-3C71-499E-9E5C-4F5BA9F3F72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24000" y="2924280"/>
            <a:ext cx="48960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04232e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7"/>
          <p:cNvSpPr/>
          <p:nvPr/>
        </p:nvSpPr>
        <p:spPr>
          <a:xfrm>
            <a:off x="2124000" y="3860640"/>
            <a:ext cx="48960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4232e"/>
                </a:solidFill>
                <a:latin typeface="Arial"/>
              </a:rPr>
              <a:t>Subheading goes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64728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</cp:lastModifiedBy>
  <dcterms:modified xsi:type="dcterms:W3CDTF">2013-01-12T04:42:43Z</dcterms:modified>
  <cp:revision>703</cp:revision>
  <dc:subject/>
  <dc:title>Diapositiva 1</dc:title>
</cp:coreProperties>
</file>