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DD6B-F70E-4CDE-A019-5EF7DABF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512-2661-493D-915B-6E24AAD3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53D4-02BA-48F3-9820-12A85EAA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F1D-3CC3-4175-B2CD-EF05AB9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38A-1872-4952-B005-261CAF0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C9AE-6BF3-4E35-98FD-E94E4F27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1F4-9BCA-4F4F-AE97-1D00D41C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5D3-720F-4C68-9E3F-80248D1F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86A3-9093-442E-92AF-0F8F7B8F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D50F-F806-48FC-96C6-0719154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3DC-246A-46A2-9498-CADDCDD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7FD-D48D-428F-A5ED-C7F7036F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3DF9-8BB2-42E9-B341-FBBD1CB993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720" y="479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395280" y="558972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372360" y="546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45:32Z</dcterms:modified>
  <cp:revision>721</cp:revision>
  <dc:subject/>
  <dc:title>Diapositiva 1</dc:title>
</cp:coreProperties>
</file>