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E1B-9ACC-432C-AF3E-83BAB774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9E5-62D0-4999-BFD0-76F968F9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855-977C-4BAA-B9F1-4FD467A3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DBD-C966-4A14-81F5-E437FDF9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13F-7BF9-4E33-9442-86644D52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258-9956-4FE4-A028-1D8F8FE3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0F9-85CE-43B0-9B88-9FFB8945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6B6-4DFC-4CDD-846D-8E408A5B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6B6-1363-413C-95DE-AFA1323C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97B-C02D-49FB-8BD6-7C99DAA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700-9450-41EC-AFD0-E57357B6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851-3D90-460B-B532-38C83E72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7FA5-8CA1-4677-9BEB-129331A499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4767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40404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2050920" y="5408640"/>
            <a:ext cx="48643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40404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600084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3986280" y="1357200"/>
            <a:ext cx="4782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15200" y="1857240"/>
            <a:ext cx="13287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15200" y="242892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15200" y="357192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15200" y="414324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15200" y="471492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15200" y="528624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15200" y="300024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4294080" y="992160"/>
            <a:ext cx="4475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43800" y="1600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43800" y="2171880"/>
            <a:ext cx="1243080" cy="5428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43800" y="331488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43800" y="3886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43800" y="445788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43800" y="5029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43800" y="2743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4311720" y="977760"/>
            <a:ext cx="4457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620120" y="1447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620120" y="2019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620120" y="3162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620120" y="3733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620120" y="4305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620120" y="4876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620120" y="2590920"/>
            <a:ext cx="1238040" cy="5522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4311720" y="1031760"/>
            <a:ext cx="4457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620120" y="1486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620120" y="2057400"/>
            <a:ext cx="1238040" cy="51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620120" y="3200400"/>
            <a:ext cx="1238040" cy="5144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620120" y="3772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620120" y="4343400"/>
            <a:ext cx="1238040" cy="51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620120" y="4915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620120" y="2629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1"/>
          <p:cNvSpPr/>
          <p:nvPr/>
        </p:nvSpPr>
        <p:spPr>
          <a:xfrm>
            <a:off x="4294080" y="1039680"/>
            <a:ext cx="44751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43800" y="1562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43800" y="2133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43800" y="3276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43800" y="3848040"/>
            <a:ext cx="1243080" cy="509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43800" y="4419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43800" y="4991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43800" y="2705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3762360" y="977760"/>
            <a:ext cx="5006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467480" y="1447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467480" y="201924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467480" y="316224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467480" y="3733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467480" y="4305240"/>
            <a:ext cx="139068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467480" y="4876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467480" y="2590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002120" y="870120"/>
            <a:ext cx="46641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391520" y="1371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391520" y="1943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391520" y="3086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391520" y="3657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391520" y="4229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391520" y="4800600"/>
            <a:ext cx="1295280" cy="628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391520" y="2514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6-04-08T07:53:53Z</dcterms:modified>
  <cp:revision>750</cp:revision>
  <dc:subject/>
  <dc:title>Diapositiva 1</dc:title>
</cp:coreProperties>
</file>