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AF2A-C6F9-4C58-A7D0-BB1AE78CA64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D499-8D62-4AFE-9553-A7FEA0D2277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2F09-EAB3-4ACB-8494-561524F7C39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7FE-6481-48FD-8A66-86DF9615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C5C-7AEE-4CD1-84AB-580E1D0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8DF-5AB0-4ED3-AC06-1DD47448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6FA-ADDC-4A88-BD08-9A7BED44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892-3C2C-42B8-B48C-CE5F2D9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20F-C90A-4B2B-9726-631F7A15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1CF-E8DC-46D0-848C-CF886F33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FEE-0B13-4515-919E-A7DDF593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7FF-EA81-4C65-A2ED-A1578D34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A7D-3BC3-4381-A98E-72A53E2C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10E-AC53-4CB2-9123-A535A796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881-E2AA-4B89-A822-09B76B2D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902-5EAC-4F6B-81D5-76B352F54A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70036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</cp:lastModifiedBy>
  <dcterms:modified xsi:type="dcterms:W3CDTF">2016-04-08T06:05:58Z</dcterms:modified>
  <cp:revision>40</cp:revision>
  <dc:subject/>
  <dc:title>TITLE</dc:title>
</cp:coreProperties>
</file>