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928-D07B-462C-A322-4908A2B1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0A2-3B38-445B-A002-570FAE8D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E14-90BE-4F84-928C-4490218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948-A57F-46FB-A4B8-2061D625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252-01ED-49ED-93BE-6BECA61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EDA-047A-4E26-8DD0-8844973F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8F1-175D-42C7-9317-AAF1A033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CDE-E156-490A-87A1-5E8B034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307-C2A7-44C6-93CF-E50500C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EF0-CF62-4246-9DA8-1C5E6F9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F20-66C7-46F5-BD8B-6F370F1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BAE-4606-4DAB-899E-863F461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F33-9885-49E8-AC50-324447A87E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51890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99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356000" y="5805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99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971640" y="5634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5:57Z</dcterms:modified>
  <cp:revision>711</cp:revision>
  <dc:subject/>
  <dc:title>Diapositiva 1</dc:title>
</cp:coreProperties>
</file>