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49F-83AB-4C1D-8875-C6416CB7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208-93D6-4213-9991-40F311C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CBA-87F8-4E35-AD67-DF787ABD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D85-42B1-4A0E-B81A-84E7F3D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05E-E862-4765-8D62-1648527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DFF-EECA-435F-8E20-265FD57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B7F-3C2E-440A-81A0-A4BE781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A2-8B35-4807-ACC1-94DB7AC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BF8-1C33-41A9-B4C7-9D601B6D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BA2-BC14-4C8C-AB04-4CBEFAB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06D-8C98-4716-BF22-C575532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E28-E218-45F8-A85D-5F40FCD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082-F445-42A7-ABDD-A2930452A8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292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4:42:38Z</dcterms:modified>
  <cp:revision>259</cp:revision>
  <dc:subject/>
  <dc:title>Diapositiva 1</dc:title>
</cp:coreProperties>
</file>