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8A48-315F-47AC-ACF5-F7C23D14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452-3F29-4B9D-9BBC-9D64E8AC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EA0-F44A-411B-8E27-DB9C4108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7D5-7D0F-451D-B258-D3C7CD12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DE3-E280-43D9-9BFF-1532903F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568-1712-42E4-8F12-3C164D30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ED6-8B86-454F-8A9C-21562836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ED0-25DC-40C4-8E6E-4707EAED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6D4-FACA-41C6-AAFE-4059C1EE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244-6E72-4CF6-9B7A-54207177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7FC-45A6-47C9-BD0A-CA4C0C2A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763-09FE-4677-BFCB-FCD46A71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5EA1-2EB5-40EC-993A-DE5114F2364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5229000"/>
            <a:ext cx="4859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800000"/>
                </a:solidFill>
                <a:latin typeface="Arial"/>
              </a:rPr>
              <a:t>Presentation Title</a:t>
            </a:r>
            <a:r>
              <a:rPr b="0" lang="es-UY" sz="4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8"/>
          <p:cNvSpPr/>
          <p:nvPr/>
        </p:nvSpPr>
        <p:spPr>
          <a:xfrm>
            <a:off x="3203640" y="530064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800000"/>
                </a:solidFill>
                <a:latin typeface="Arial"/>
              </a:rPr>
              <a:t>My name</a:t>
            </a:r>
            <a:br>
              <a:rPr sz="2000"/>
            </a:br>
            <a:r>
              <a:rPr b="0" lang="es-UY" sz="2000" spc="-1" strike="noStrike">
                <a:solidFill>
                  <a:srgbClr val="800000"/>
                </a:solidFill>
                <a:latin typeface="Arial"/>
              </a:rPr>
              <a:t>contact information</a:t>
            </a:r>
            <a:br>
              <a:rPr sz="2000"/>
            </a:br>
            <a:r>
              <a:rPr b="0" lang="es-UY" sz="2000" spc="-1" strike="noStrike">
                <a:solidFill>
                  <a:srgbClr val="800000"/>
                </a:solidFill>
                <a:latin typeface="Arial"/>
              </a:rPr>
              <a:t>or proje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06728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46:20Z</dcterms:modified>
  <cp:revision>723</cp:revision>
  <dc:subject/>
  <dc:title>Diapositiva 1</dc:title>
</cp:coreProperties>
</file>