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B79-6E99-4E66-A3C1-FF9D005E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F69-8A02-48BA-A726-8F8EA354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E40-4A37-48C1-9415-F5B0B69F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200-EFA6-4BE3-9B01-EFC30A67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CE0-79C5-4A1E-BB5F-5C5A2806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C7D-3BE6-4B1A-83CF-94472175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166-3F17-49AC-A65E-B598670F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66F-E783-47FF-A8F2-7DD5553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3B6-ABEA-49A0-AEEA-AA54AEAB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3B8-83F6-4DD9-BFCC-DADCAB94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CF5-67C9-4F48-9E5F-B8DC61E2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021-A90A-4C72-B39B-D5D7A51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78C1-FDD3-49B2-B8EB-F1E4731916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0004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357200"/>
            <a:ext cx="4628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8572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4289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5719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41432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7149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2862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30002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06:53Z</dcterms:modified>
  <cp:revision>90</cp:revision>
  <dc:subject/>
  <dc:title>Diapositiva 1</dc:title>
</cp:coreProperties>
</file>