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091-C0FC-4A99-94D4-015B434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070-FA80-4026-950B-7C1F74E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59A-553E-4F71-8A4C-1C1646C1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11F-E6F7-4B1F-BDFA-2C6FB024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3C8-688C-4FD1-A6EC-FE6083E8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AB7-7274-42C4-B07E-3B70BD6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557-D0DC-4DDF-9823-BDD47709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D87-54CD-493A-8743-C72926A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FD8-20FA-4AA7-886A-699DF94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651-1A14-46BF-8546-4CF70EF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A5B-3FA8-4F62-9899-7F04731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F67-7BB4-4516-BF41-0C949F1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4BCF-7FF8-4B00-9131-4552B367D5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besat3-1</cp:lastModifiedBy>
  <dcterms:modified xsi:type="dcterms:W3CDTF">2016-04-11T11:42:09Z</dcterms:modified>
  <cp:revision>20</cp:revision>
  <dc:subject/>
  <dc:title>Texto</dc:title>
</cp:coreProperties>
</file>