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7C6-0A58-4A5B-BAE4-FBE101F5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F36-54A9-4CE8-8F2F-3CFC1021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085-28FE-4FB2-89B4-50FC2E87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0A5-335F-4200-9A56-91ACCCAC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626-0A15-4ED3-83FE-0106F5E7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648-137D-41CB-9843-51EE3494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8BA-B7D5-4436-9E2A-2F0FA720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3E7-AE4D-4AA4-82AA-5E7DA33A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FB3-A81F-4D31-BBF6-37701729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1B7-E107-43A0-BF02-0A69134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9FF-D6B1-4F9A-B6BB-2628DD79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C81-A553-4F45-843A-C723BA33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B30A-E879-4375-A53E-32CB73947E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64000" y="5157360"/>
            <a:ext cx="5184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57760" y="578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47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47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47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42:18Z</dcterms:modified>
  <cp:revision>744</cp:revision>
  <dc:subject/>
  <dc:title>Diapositiva 1</dc:title>
</cp:coreProperties>
</file>