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C26-549F-42C6-ADB7-814D8778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F7E-F028-4725-B154-9D123DC5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86A-D12D-4942-8B11-E086AA80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850-8097-4F62-8BBC-CD409EA3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413-A670-4460-99AF-8F65FB04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537-E164-4399-B7BC-0C1834C7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412-114D-4E53-AF7A-F50F09A7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305-A2AF-452B-9988-67F41215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AF9-7B61-48D5-A783-DF9474C9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020-3A2D-4AF8-929A-C9263C4C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08D-A75E-43F8-9328-964A21C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DED-1EC8-4BB4-8C92-CD10214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1BEB-F9C7-4C98-8287-48E1633153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4801680"/>
            <a:ext cx="432108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95280" y="5300640"/>
            <a:ext cx="36720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443640" y="5816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4-08T06:05:37Z</dcterms:modified>
  <cp:revision>765</cp:revision>
  <dc:subject/>
  <dc:title>Diapositiva 1</dc:title>
</cp:coreProperties>
</file>