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45A-249A-4D50-8931-B4774A00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EC9-4568-4127-A2AD-137171F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45B-2035-448F-9BBF-D332A567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5A0-C7CD-4C85-BA30-700DFB4A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47D-DE3C-416E-AAB5-6E555D6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B3D-CD20-4ED6-9D56-8F6F9533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19E-EBF4-42C3-89AC-51584DA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CDF-6B84-46D1-A0EE-E655D3BE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BD8-58CD-4EF7-9EBB-FDA1D94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132-BAF9-4BC3-97EB-232791D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4EA-F723-4EE0-A625-AAA2FBA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F31-979F-49B7-94F6-28BD1AF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6F1-5D2B-4081-B4CE-760ED4D44E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8920" y="508464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99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5805360"/>
            <a:ext cx="4319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9900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73280" y="56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14:17Z</dcterms:modified>
  <cp:revision>596</cp:revision>
  <dc:subject/>
  <dc:title>Diapositiva 1</dc:title>
</cp:coreProperties>
</file>