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C19-B4A8-4F39-B41F-1685263D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3AB-ABFE-4F46-89AA-824331B1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E76-B24B-4116-9ED5-0848120D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E21-A6FA-43AE-BCA5-956EA69C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51E-B4D8-4283-963D-B89D1820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6B1-4E80-459D-B22F-5B9BC087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159-EA3C-4388-9F46-4D33EFBD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071-63D0-4B1D-A660-35EE322C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0E0-B5F2-4731-A447-F00C3BC5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800-E60B-4685-B12A-85AE1243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A70-599F-4E59-A388-1639C3D5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1AC-4F1F-41BA-9723-99ACFB0C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1106-4067-436C-A22E-CC9CC0C0A2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26828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55"/>
          <p:cNvSpPr/>
          <p:nvPr/>
        </p:nvSpPr>
        <p:spPr>
          <a:xfrm>
            <a:off x="971640" y="2276640"/>
            <a:ext cx="66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539640" y="465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4:18:02Z</dcterms:modified>
  <cp:revision>624</cp:revision>
  <dc:subject/>
  <dc:title>Diapositiva 1</dc:title>
</cp:coreProperties>
</file>