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52B5-2CAF-46AE-877D-5C60709E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18E-7622-4D02-BD7F-68F04AD4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6ABD-AD0D-480B-A34C-0C53E49B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1C84-D445-426A-BBB6-6031A097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CBD3-0B20-43EC-98F9-C8B2D1A3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AFEE-FFFE-4D6F-9005-0E37F1C2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1AA1-4C1E-4658-9FB2-DBD7E3E3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A52-AFF0-40AF-9C99-C8F6BAA0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4BF3-55DF-4999-A04B-9CFE99CF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3447-FFE4-4002-A4FE-87405025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F965-7101-47F9-A6DC-865C753C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887E-CD82-4357-9010-484FAD3F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24C9-A7B2-43F9-9925-F1FFC23AA88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607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3986280" y="992160"/>
            <a:ext cx="47829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15200" y="1600200"/>
            <a:ext cx="1328760" cy="5428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15200" y="2171880"/>
            <a:ext cx="132876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15200" y="3314880"/>
            <a:ext cx="132876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15200" y="3886200"/>
            <a:ext cx="132876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15200" y="4457880"/>
            <a:ext cx="132876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15200" y="5029200"/>
            <a:ext cx="132876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15200" y="2743200"/>
            <a:ext cx="132876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294080" y="992160"/>
            <a:ext cx="4475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7543800" y="1600200"/>
            <a:ext cx="12430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543800" y="2171880"/>
            <a:ext cx="1243080" cy="5428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543800" y="3314880"/>
            <a:ext cx="12430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543800" y="3886200"/>
            <a:ext cx="12430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543800" y="4457880"/>
            <a:ext cx="12430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543800" y="5029200"/>
            <a:ext cx="12430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543800" y="2743200"/>
            <a:ext cx="12430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311720" y="977760"/>
            <a:ext cx="4457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7620120" y="1447920"/>
            <a:ext cx="1238040" cy="552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7620120" y="2019240"/>
            <a:ext cx="1238040" cy="552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7620120" y="3162240"/>
            <a:ext cx="1238040" cy="552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620120" y="3733920"/>
            <a:ext cx="1238040" cy="552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7620120" y="4305240"/>
            <a:ext cx="1238040" cy="552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7620120" y="4876920"/>
            <a:ext cx="1238040" cy="552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7620120" y="2590920"/>
            <a:ext cx="1238040" cy="5522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311720" y="1031760"/>
            <a:ext cx="4457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"/>
          <p:cNvSpPr/>
          <p:nvPr/>
        </p:nvSpPr>
        <p:spPr>
          <a:xfrm>
            <a:off x="7620120" y="1486080"/>
            <a:ext cx="1238040" cy="514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620120" y="2057400"/>
            <a:ext cx="1238040" cy="514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5"/>
          <p:cNvSpPr/>
          <p:nvPr/>
        </p:nvSpPr>
        <p:spPr>
          <a:xfrm>
            <a:off x="7620120" y="3200400"/>
            <a:ext cx="1238040" cy="5144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6"/>
          <p:cNvSpPr/>
          <p:nvPr/>
        </p:nvSpPr>
        <p:spPr>
          <a:xfrm>
            <a:off x="7620120" y="3772080"/>
            <a:ext cx="1238040" cy="514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"/>
          <p:cNvSpPr/>
          <p:nvPr/>
        </p:nvSpPr>
        <p:spPr>
          <a:xfrm>
            <a:off x="7620120" y="4343400"/>
            <a:ext cx="1238040" cy="514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7620120" y="4915080"/>
            <a:ext cx="1238040" cy="514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7620120" y="2629080"/>
            <a:ext cx="1238040" cy="514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294080" y="1039680"/>
            <a:ext cx="44751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7543800" y="1562040"/>
            <a:ext cx="1243080" cy="50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543800" y="2133720"/>
            <a:ext cx="124308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5"/>
          <p:cNvSpPr/>
          <p:nvPr/>
        </p:nvSpPr>
        <p:spPr>
          <a:xfrm>
            <a:off x="7543800" y="3276720"/>
            <a:ext cx="124308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6"/>
          <p:cNvSpPr/>
          <p:nvPr/>
        </p:nvSpPr>
        <p:spPr>
          <a:xfrm>
            <a:off x="7543800" y="3848040"/>
            <a:ext cx="1243080" cy="509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7543800" y="4419720"/>
            <a:ext cx="1243080" cy="509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"/>
          <p:cNvSpPr/>
          <p:nvPr/>
        </p:nvSpPr>
        <p:spPr>
          <a:xfrm>
            <a:off x="7543800" y="4991040"/>
            <a:ext cx="1243080" cy="50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9"/>
          <p:cNvSpPr/>
          <p:nvPr/>
        </p:nvSpPr>
        <p:spPr>
          <a:xfrm>
            <a:off x="7543800" y="2705040"/>
            <a:ext cx="1243080" cy="50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3762360" y="977760"/>
            <a:ext cx="5006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7467480" y="1447920"/>
            <a:ext cx="13906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7467480" y="2019240"/>
            <a:ext cx="13906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7467480" y="3162240"/>
            <a:ext cx="13906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7467480" y="3733920"/>
            <a:ext cx="13906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7467480" y="4305240"/>
            <a:ext cx="1390680" cy="4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7467480" y="4876920"/>
            <a:ext cx="13906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7467480" y="2590920"/>
            <a:ext cx="13906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4002120" y="870120"/>
            <a:ext cx="46641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3"/>
          <p:cNvSpPr/>
          <p:nvPr/>
        </p:nvSpPr>
        <p:spPr>
          <a:xfrm>
            <a:off x="7391520" y="1371600"/>
            <a:ext cx="1295280" cy="62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391520" y="1943280"/>
            <a:ext cx="1295280" cy="62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7391520" y="3086280"/>
            <a:ext cx="1295280" cy="62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6"/>
          <p:cNvSpPr/>
          <p:nvPr/>
        </p:nvSpPr>
        <p:spPr>
          <a:xfrm>
            <a:off x="7391520" y="3657600"/>
            <a:ext cx="1295280" cy="62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7"/>
          <p:cNvSpPr/>
          <p:nvPr/>
        </p:nvSpPr>
        <p:spPr>
          <a:xfrm>
            <a:off x="7391520" y="4229280"/>
            <a:ext cx="1295280" cy="62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8"/>
          <p:cNvSpPr/>
          <p:nvPr/>
        </p:nvSpPr>
        <p:spPr>
          <a:xfrm>
            <a:off x="7391520" y="4800600"/>
            <a:ext cx="1295280" cy="628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9"/>
          <p:cNvSpPr/>
          <p:nvPr/>
        </p:nvSpPr>
        <p:spPr>
          <a:xfrm>
            <a:off x="7391520" y="2514600"/>
            <a:ext cx="1295280" cy="628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1:59Z</dcterms:created>
  <dc:creator>Mariajose</dc:creator>
  <dc:description/>
  <dc:language>en-US</dc:language>
  <cp:lastModifiedBy>ASUS</cp:lastModifiedBy>
  <dcterms:modified xsi:type="dcterms:W3CDTF">2016-04-08T07:53:23Z</dcterms:modified>
  <cp:revision>4</cp:revision>
  <dc:subject/>
  <dc:title>Diapositiva 1</dc:title>
</cp:coreProperties>
</file>