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5F64-F004-4164-B9BF-3D555498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602-0851-440B-81AD-771EB8E4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B1C-E2CE-492E-84DC-9E5B76A8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ADED-702C-48E3-BBCC-36EC8D08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5C44-34A8-49D5-8E87-49F1ACD4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1EA-74AD-4CCB-9316-12A9AE99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78C-9915-45E6-8047-3C88B0B0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7C3-F9E6-4269-A139-6B37C88B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F50E-2E23-4D82-BC42-5E4F5244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E3B-1B6A-4982-93D1-4DDF9931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0C2-302A-471C-8E8F-2040B399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BB5-B8D4-454E-BF8E-AAC0342B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388F-4BC1-48DE-AF84-BE438002BA3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5229360"/>
            <a:ext cx="518472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333333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7"/>
          <p:cNvSpPr/>
          <p:nvPr/>
        </p:nvSpPr>
        <p:spPr>
          <a:xfrm>
            <a:off x="2124000" y="5805360"/>
            <a:ext cx="4896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333333"/>
                </a:solidFill>
                <a:latin typeface="Arial"/>
              </a:rPr>
              <a:t>Subheading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395280" y="58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3-06T08:46:43Z</dcterms:modified>
  <cp:revision>711</cp:revision>
  <dc:subject/>
  <dc:title>Diapositiva 1</dc:title>
</cp:coreProperties>
</file>