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729-4BCC-4831-A5AC-53573E25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CF6-B1E8-46C5-A9D6-61A0CE2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E96-FFA1-46BE-81BD-E62ECEDF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F32-D04A-461C-AEEE-6F77EEAF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6B6-A1C9-4260-A2D2-8EE252CB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24B-605F-4EAC-A03C-2ABA209F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091-8ED6-49B4-8D19-595EF36C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B3B-3F32-47DA-BBC3-B632C053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791-116E-48D6-AECF-37586D08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C6C-AFA3-4C79-9657-BFBEF9C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818-F845-41B7-A804-40C92D2D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A49-99B5-4C18-9D9B-819C54D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7701-C55A-4AB2-B76B-9B54E69770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530028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07212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4-09T17:55:07Z</dcterms:modified>
  <cp:revision>677</cp:revision>
  <dc:subject/>
  <dc:title>Diapositiva 1</dc:title>
</cp:coreProperties>
</file>