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9C0-D019-4CEE-BD09-82F1E90C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389-358A-4CA7-AB22-1C54B0E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533-B0A6-4012-AF52-6098B3BB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91C-E696-4B06-9D7A-56DBEFEC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123-02E6-47F9-BDE0-CD3E80E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A73-E4DD-4696-BF67-B93E1DB0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105-09E8-417C-8F9D-FDA4EBC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50C-7725-44A5-9897-9FEEFD8B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FE6-81D6-4349-8B6F-BF7B614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A8E-5CBB-4F81-80C9-31AB8CD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5EE-CAF8-400E-AA84-AEFB5AE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402-F50C-485A-B563-5894705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CB0-4EB9-49B3-89D8-29DF890584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496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besat3-1</cp:lastModifiedBy>
  <dcterms:modified xsi:type="dcterms:W3CDTF">2016-04-11T11:57:56Z</dcterms:modified>
  <cp:revision>15</cp:revision>
  <dc:subject/>
  <dc:title>Texto</dc:title>
</cp:coreProperties>
</file>