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E45-782B-4ED9-9533-27CCD0B6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D75-F061-4040-8742-2025A2F1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135-16FC-4E77-B8B8-E45234A6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8DD-C8D5-47E5-BE5F-913A785C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869-C7D4-4F50-9F77-80F2500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750-EA68-4F56-A995-A1E38EC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879-6BC6-41B9-AE1B-7DB21DF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41E-513F-468F-97F0-C3DD0D4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B41-56B1-4E05-A54E-DD01131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3FD-85BF-45BC-8791-3DAE483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854-62B1-49D2-9870-66A304D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AFD-0C4C-4DF4-80E0-7D9CF71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497F-D3FD-46E1-A509-8AD1D96619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3640" y="515736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218200" y="56624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8616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39740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643880" y="1500120"/>
            <a:ext cx="121428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643880" y="2071800"/>
            <a:ext cx="121428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643880" y="3214800"/>
            <a:ext cx="121428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643880" y="3786120"/>
            <a:ext cx="121428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643880" y="4357800"/>
            <a:ext cx="121428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643880" y="4929120"/>
            <a:ext cx="121428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643880" y="2643120"/>
            <a:ext cx="121428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4T10:00:18Z</dcterms:modified>
  <cp:revision>874</cp:revision>
  <dc:subject/>
  <dc:title>Diapositiva 1</dc:title>
</cp:coreProperties>
</file>