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2F2-D53E-4790-93DD-2B52162F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34C-439F-44C9-B610-200FCEB1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AF2-8972-4374-8932-6C95D392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683-CC63-44C3-88A4-379BC146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67A-BA3F-41AB-AB6C-A1DB662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F52-9BDE-48B4-B1CF-0B91CD81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254-4491-469B-9E9E-1D593EA4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8C2-7F2F-47E7-B60E-D3954AAD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ED7-440F-4584-8CC4-90FB158D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379-9393-43B2-A96E-9E796FB7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788-AF43-431F-B11C-FFB0DC67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98E-6B91-405D-8CA1-81D3E11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2B29-6F73-42F8-9C85-8174E77B14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5942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3944880" y="1185840"/>
            <a:ext cx="4629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377120" y="1633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377120" y="22050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377120" y="33480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377120" y="3919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377120" y="44910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377120" y="5062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377120" y="2776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4-09T03:56:09Z</dcterms:modified>
  <cp:revision>32</cp:revision>
  <dc:subject/>
  <dc:title>Diapositiva 1</dc:title>
</cp:coreProperties>
</file>