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0A2-0CA1-470A-8913-6E6FFE6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E7E-C44F-409F-9027-0748B41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406-2913-4F1C-AB42-2BDF033F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3A7-60E2-4A68-ADA7-E4D29A91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815-3797-4669-A493-D1C0E8C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695-34FE-4EAD-9947-156EF86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492-C4FB-44E1-821D-4963D85F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9CA-2EF9-4481-B20D-AD579384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032-CFCC-4DD6-8C35-7711B61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6CB-886D-4781-92FF-2799328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EB7-A406-4E7A-B707-5B51608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58E-1C9D-444B-9C49-3E571E6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521-B763-44E4-A562-B636900A98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4724280"/>
            <a:ext cx="4105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364000" y="5516640"/>
            <a:ext cx="345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8584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5:26:50Z</dcterms:modified>
  <cp:revision>847</cp:revision>
  <dc:subject/>
  <dc:title>Diapositiva 1</dc:title>
</cp:coreProperties>
</file>