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EA7-1178-4129-A5DD-21565F51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1480" y="1734480"/>
            <a:ext cx="79610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1480" y="3958200"/>
            <a:ext cx="79610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6F9-AAC3-42B9-9193-6BA188CD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1480" y="1734480"/>
            <a:ext cx="3884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734480"/>
            <a:ext cx="3884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1480" y="3958200"/>
            <a:ext cx="3884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58200"/>
            <a:ext cx="3884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613-93FC-4485-9C99-E5B65891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1480" y="1734480"/>
            <a:ext cx="256320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3200" y="1734480"/>
            <a:ext cx="256320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4920" y="1734480"/>
            <a:ext cx="256320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1480" y="3958200"/>
            <a:ext cx="256320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3200" y="3958200"/>
            <a:ext cx="256320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4920" y="3958200"/>
            <a:ext cx="256320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498-4A54-4DB9-A038-5DD0BA59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1480" y="1734480"/>
            <a:ext cx="7961040" cy="42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CF80-B081-4781-8FD7-A96275E7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1480" y="1734480"/>
            <a:ext cx="7961040" cy="42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DC3-93D8-4BE5-AC07-D9A8DB29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1480" y="1734480"/>
            <a:ext cx="3884760" cy="42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734480"/>
            <a:ext cx="3884760" cy="42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BF4-9DF7-4225-B8E9-E6382864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50F6-BB35-4BC1-8646-25C6DCA1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4320" y="361440"/>
            <a:ext cx="8055360" cy="44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60AB-12DA-43C1-A93B-74FC9C06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1480" y="1734480"/>
            <a:ext cx="3884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734480"/>
            <a:ext cx="3884760" cy="42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1480" y="3958200"/>
            <a:ext cx="3884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7C2-5BE1-4870-A39E-6AE4A599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1480" y="1734480"/>
            <a:ext cx="3884760" cy="42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734480"/>
            <a:ext cx="3884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58200"/>
            <a:ext cx="3884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8D2-710F-48E4-9C55-5A36AF04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1480" y="1734480"/>
            <a:ext cx="3884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734480"/>
            <a:ext cx="3884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1480" y="3958200"/>
            <a:ext cx="79610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90C-EDC2-4502-A6B4-1DA11BA5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solidFill>
            <a:srgbClr val="17375e">
              <a:alpha val="5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1480" y="1734480"/>
            <a:ext cx="7961040" cy="425736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8BD0-BCAA-48CC-B52E-9F614F4DE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97760" y="2242080"/>
            <a:ext cx="7548480" cy="1245960"/>
          </a:xfrm>
          <a:prstGeom prst="rect">
            <a:avLst/>
          </a:prstGeom>
          <a:solidFill>
            <a:srgbClr val="17375e">
              <a:alpha val="57000"/>
            </a:srgbClr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Y Templ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23440" y="3938040"/>
            <a:ext cx="6297120" cy="16488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PPT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5720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44320" y="361440"/>
            <a:ext cx="8055360" cy="968760"/>
          </a:xfrm>
          <a:prstGeom prst="rect">
            <a:avLst/>
          </a:prstGeom>
          <a:solidFill>
            <a:srgbClr val="17375e">
              <a:alpha val="57000"/>
            </a:srgbClr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91480" y="1734480"/>
            <a:ext cx="7961040" cy="425736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oundRect">
            <a:avLst>
              <a:gd name="adj" fmla="val 26079"/>
            </a:avLst>
          </a:prstGeom>
          <a:solidFill>
            <a:srgbClr val="17375e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44320" y="361440"/>
            <a:ext cx="8055360" cy="968760"/>
          </a:xfrm>
          <a:prstGeom prst="rect">
            <a:avLst/>
          </a:prstGeom>
          <a:solidFill>
            <a:srgbClr val="17375e">
              <a:alpha val="57000"/>
            </a:srgbClr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91480" y="1734480"/>
            <a:ext cx="7961040" cy="425736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3882960" y="1052640"/>
            <a:ext cx="4886280" cy="711000"/>
          </a:xfrm>
          <a:prstGeom prst="roundRect">
            <a:avLst>
              <a:gd name="adj" fmla="val 26079"/>
            </a:avLst>
          </a:prstGeom>
          <a:solidFill>
            <a:srgbClr val="17375e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429680" y="1643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429680" y="2214720"/>
            <a:ext cx="135720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429680" y="33577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429680" y="3929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429680" y="45007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429680" y="5072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429680" y="2786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44320" y="361440"/>
            <a:ext cx="8055360" cy="968760"/>
          </a:xfrm>
          <a:prstGeom prst="rect">
            <a:avLst/>
          </a:prstGeom>
          <a:solidFill>
            <a:srgbClr val="17375e">
              <a:alpha val="57000"/>
            </a:srgbClr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91480" y="1734480"/>
            <a:ext cx="7961040" cy="425736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3882960" y="1052640"/>
            <a:ext cx="4886280" cy="711000"/>
          </a:xfrm>
          <a:prstGeom prst="roundRect">
            <a:avLst>
              <a:gd name="adj" fmla="val 26079"/>
            </a:avLst>
          </a:prstGeom>
          <a:solidFill>
            <a:srgbClr val="17375e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00960" y="15001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00960" y="207180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00960" y="321480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00960" y="37861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00960" y="435780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00960" y="49291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00960" y="2643120"/>
            <a:ext cx="135720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544320" y="361440"/>
            <a:ext cx="8055360" cy="968760"/>
          </a:xfrm>
          <a:prstGeom prst="rect">
            <a:avLst/>
          </a:prstGeom>
          <a:solidFill>
            <a:srgbClr val="17375e">
              <a:alpha val="57000"/>
            </a:srgbClr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91480" y="1734480"/>
            <a:ext cx="7961040" cy="425736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oundRect">
            <a:avLst>
              <a:gd name="adj" fmla="val 26079"/>
            </a:avLst>
          </a:prstGeom>
          <a:solidFill>
            <a:srgbClr val="17375e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44320" y="361440"/>
            <a:ext cx="8055360" cy="968760"/>
          </a:xfrm>
          <a:prstGeom prst="rect">
            <a:avLst/>
          </a:prstGeom>
          <a:solidFill>
            <a:srgbClr val="17375e">
              <a:alpha val="57000"/>
            </a:srgbClr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91480" y="1734480"/>
            <a:ext cx="7961040" cy="425736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oundRect">
            <a:avLst>
              <a:gd name="adj" fmla="val 26079"/>
            </a:avLst>
          </a:prstGeom>
          <a:solidFill>
            <a:srgbClr val="17375e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44320" y="361440"/>
            <a:ext cx="8055360" cy="968760"/>
          </a:xfrm>
          <a:prstGeom prst="rect">
            <a:avLst/>
          </a:prstGeom>
          <a:solidFill>
            <a:srgbClr val="17375e">
              <a:alpha val="57000"/>
            </a:srgbClr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91480" y="1734480"/>
            <a:ext cx="7961040" cy="425736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oundRect">
            <a:avLst>
              <a:gd name="adj" fmla="val 26079"/>
            </a:avLst>
          </a:prstGeom>
          <a:solidFill>
            <a:srgbClr val="17375e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44320" y="361440"/>
            <a:ext cx="8055360" cy="968760"/>
          </a:xfrm>
          <a:prstGeom prst="rect">
            <a:avLst/>
          </a:prstGeom>
          <a:solidFill>
            <a:srgbClr val="17375e">
              <a:alpha val="57000"/>
            </a:srgbClr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91480" y="1734480"/>
            <a:ext cx="7961040" cy="425736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oundRect">
            <a:avLst>
              <a:gd name="adj" fmla="val 26079"/>
            </a:avLst>
          </a:prstGeom>
          <a:solidFill>
            <a:srgbClr val="17375e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04:46:38Z</dcterms:created>
  <dc:creator>Julian</dc:creator>
  <dc:description/>
  <dc:language>en-US</dc:language>
  <cp:lastModifiedBy>besat3-1</cp:lastModifiedBy>
  <dcterms:modified xsi:type="dcterms:W3CDTF">2016-04-11T15:28:32Z</dcterms:modified>
  <cp:revision>7</cp:revision>
  <dc:subject/>
  <dc:title>PowerPoint Presentation</dc:title>
</cp:coreProperties>
</file>