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374-F10F-43FA-9AF2-3791F8A9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7CA-1002-4624-AEE9-63F7EAA6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A01-A315-41DD-BD80-3BA6A933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B44-9A8A-4EA5-A9E2-1E39D2EA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99D-11B1-49E2-A16C-EBE01F3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11F-9974-4C15-A09E-30B1D34E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D60-B498-42A0-95C5-785BE387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449-F8FD-4B56-AB05-BFA3F5F9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F02-839C-4BB1-8545-C6029B1E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752-BE99-430B-8BA0-919D3BAA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ED8-1CBA-403A-8F4F-38E971F4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C21-A86E-41A3-93BC-F9FF1864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7BD1-840A-4AF6-AF4B-A718806411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460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besat3-1</cp:lastModifiedBy>
  <dcterms:modified xsi:type="dcterms:W3CDTF">2016-04-11T11:42:29Z</dcterms:modified>
  <cp:revision>5</cp:revision>
  <dc:subject/>
  <dc:title>Title</dc:title>
</cp:coreProperties>
</file>