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0F49-E482-49AB-948E-E1C8C091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6DB2-5D22-4EB0-B02E-09FF5334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E36F-9865-42E7-AA23-741856D6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11A8-1134-44A0-B050-F08A2EFE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AD07-A045-42AC-BD9D-6B71B80E1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BA6-4B97-4902-8588-0DB0ECB3C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F1FD-EFCD-4BEB-8F4B-D625170C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2FAD-4E49-48E2-9599-DB620E5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5CB6-2EFF-46C0-BF9E-B130C517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A760-B155-41BA-B853-C13EC26B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6D18-43CF-44BD-A0A7-3AD3AEBD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BA9F-2534-455C-955B-262CFEA5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F95F-6C49-4343-BD20-E7977AE7CFF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140328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4-06T05:23:08Z</dcterms:modified>
  <cp:revision>304</cp:revision>
  <dc:subject/>
  <dc:title>Diapositiva 1</dc:title>
</cp:coreProperties>
</file>