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90BD-AA11-4DAC-99D2-C153B987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FC7A-C2CC-4CA7-9A87-C4937635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EB1F-1877-4985-BD99-EF893EDD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3DA3-9771-4659-8271-70227CD9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D9B9-6757-48EB-87A3-D0DFE66E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2049-7278-43A9-9F4A-B49DA894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C258-D7DF-4CDC-B9AB-10DD84B0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0C2D-414E-41DA-B834-6092A207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DE9F-95E1-40C4-9CCF-33C457EB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8177-AEFC-48D2-973D-4200ACFA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A772-B9C9-405B-B5FE-F68E61EF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0D6F-9100-44A3-8DFF-0C244F7A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A82A-F1C1-4233-9ACD-DF7D947E1F1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38200" y="2852280"/>
            <a:ext cx="4321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esat3-1</cp:lastModifiedBy>
  <dcterms:modified xsi:type="dcterms:W3CDTF">2016-04-11T11:58:07Z</dcterms:modified>
  <cp:revision>706</cp:revision>
  <dc:subject/>
  <dc:title>Diapositiva 1</dc:title>
</cp:coreProperties>
</file>