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71E-C4C9-4605-B26B-192B977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FE4-AB48-4A00-B8AF-A127C7D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707-7933-46FE-B0D6-0D7F145D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C84-12E5-4852-8AA8-DF5D9EF6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39C-6E50-4B32-8BCF-CF2A121A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BAC-2A02-4C7D-8205-E8D2A010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828-9ADF-4003-9F12-CC2E1B3F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B59-467C-4A3C-9EF3-C718AB9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CE6-7EA0-4C5B-9BF4-3F7335B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A8C-3668-4AB1-9079-AB86851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A9B-9C74-4EF7-A170-263AE34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E8E-4BA1-4097-BBAE-E737014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EB4-B33D-493B-90DB-8CC84074D7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3572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7:04Z</dcterms:modified>
  <cp:revision>28</cp:revision>
  <dc:subject/>
  <dc:title>Diapositiva 1</dc:title>
</cp:coreProperties>
</file>