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C14-EE04-43CC-AB6D-AFC93E09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943-894F-4DFE-AC31-E2AC332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CA1-F676-46D2-84E9-C1693474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A2A-FD43-46BA-9B21-1F1EFDDD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EF6-F401-4DB2-A173-4C0CE837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039-3769-481A-85A6-50D228C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7D4-A9B5-42F1-AF2D-72CFA2E4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79E-79A0-4018-B63C-07111C5A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B42-86A8-4FF1-A6E2-E54660F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9F2-41EB-4362-974C-E1F5EF9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730-7455-4E47-A0CA-FA4B673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B17-1426-4406-87F1-0CD70FF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F20-9CD5-4B6C-9224-D3B3899BE0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40404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55680" y="134136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404040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340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30:45Z</dcterms:modified>
  <cp:revision>753</cp:revision>
  <dc:subject/>
  <dc:title>Diapositiva 1</dc:title>
</cp:coreProperties>
</file>