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6A9-7CEA-45A3-A8E6-B20CEBD8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A54-D8DF-48B1-90BC-D7A2D91C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08F-B217-46A0-9453-3A0AA2FC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5AD-1018-4928-A75F-F16B4014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4A6-7DB9-410A-92B9-89C8499F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FA0-6BA9-4A28-B5B6-EB2BABC9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25C-AED8-49DB-8F66-FD317C06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2E6-9A36-4ABF-8CDF-D99EE4DB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37C-8D16-4F34-BC67-1866E42B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82A-3EA7-4B77-A2A3-0103941E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B53-D423-4DF8-B78B-AFD172E8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EC8-F561-45E8-9F30-D912D2C9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1D13-6EDD-409C-8EBE-02F395DBDC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7480" y="1098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82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35780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259160" y="914400"/>
            <a:ext cx="450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91520" y="1546200"/>
            <a:ext cx="125100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91520" y="2117880"/>
            <a:ext cx="12510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91520" y="3260880"/>
            <a:ext cx="12510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91520" y="3832200"/>
            <a:ext cx="12510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91520" y="4403880"/>
            <a:ext cx="12510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91520" y="4975200"/>
            <a:ext cx="12510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91520" y="2689200"/>
            <a:ext cx="12510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037040" y="1141560"/>
            <a:ext cx="47322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43800" y="1562040"/>
            <a:ext cx="1314360" cy="43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43800" y="2133720"/>
            <a:ext cx="1314360" cy="43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43800" y="3276720"/>
            <a:ext cx="1314360" cy="43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43800" y="3848040"/>
            <a:ext cx="1314360" cy="43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43800" y="4419720"/>
            <a:ext cx="1314360" cy="43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43800" y="4991040"/>
            <a:ext cx="1314360" cy="43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43800" y="2705040"/>
            <a:ext cx="1314360" cy="4381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ASUS</cp:lastModifiedBy>
  <dcterms:modified xsi:type="dcterms:W3CDTF">2016-04-08T08:04:58Z</dcterms:modified>
  <cp:revision>13</cp:revision>
  <dc:subject/>
  <dc:title>Diapositiva 1</dc:title>
</cp:coreProperties>
</file>