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ACD4-0B13-4588-ACCC-F119BA029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A992-D39A-4DD0-9191-6CDE33BA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B364-512A-467F-B402-17E6188F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7039-42E5-4867-A0DA-77D7F090A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FC8D-BD54-4C75-A5D7-3AAA75447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3DDA-CA97-4A43-92C5-B4D4FF42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CE6-53E6-4731-9F2E-0B65097A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6F9F-3DC5-40F1-A49C-F1C887AC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D6C-ECCE-434C-AF05-069225AF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BBDA-0A15-4106-8E57-D6E05F43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AB86-B47A-497A-974C-61E059F6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D61B-9518-475A-8183-62628D23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B42A-B76B-4A80-9004-34BACDC5BFC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2205000"/>
            <a:ext cx="52549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1332000" y="6021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sys</cp:lastModifiedBy>
  <dcterms:modified xsi:type="dcterms:W3CDTF">2016-04-06T05:23:30Z</dcterms:modified>
  <cp:revision>57</cp:revision>
  <dc:subject/>
  <dc:title>Texto</dc:title>
</cp:coreProperties>
</file>