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ED6-D54A-4616-8772-42DF9496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520-85F0-4445-870A-1BB0E5CC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471-489A-4337-A432-3BBBF2BE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E48-7ADF-4901-ABA1-5DC57E3D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2AB-7E7A-463E-A0B4-5CF5CDD2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A8D-6D18-4466-A4B4-431F4085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054-6FC8-4328-BBA5-D318BAF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546-DD43-4C12-BF1C-84318E46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FE7-647B-4E14-9D6A-60E868F8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9BB-83CA-4FDB-A246-D398BBE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AFC-0BAB-467B-A874-C2FD331C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39B-282C-4465-9B49-2C1E011B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98B8-F6AE-4155-8431-C4BB6C76EE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5038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919080" y="530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</cp:lastModifiedBy>
  <dcterms:modified xsi:type="dcterms:W3CDTF">2016-04-08T06:30:09Z</dcterms:modified>
  <cp:revision>10</cp:revision>
  <dc:subject/>
  <dc:title>TITLE</dc:title>
</cp:coreProperties>
</file>