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FE0E-72FA-4305-B389-5DB7B55E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ADA-A581-4A84-B208-D0E3C20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17A-C1F7-46EC-8C8D-14051F6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2FB-BDCD-41D2-BE69-BF2E51E7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DA4-7A65-4F21-A23B-48934AB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D2D-1DC8-4708-9877-680E33F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602-62EE-4895-8DED-A365ACA8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4F0-12C1-40CB-8838-DD09756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895-A38A-452D-9443-4ABD03E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E1F-2431-403C-AC5B-269492F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602-7735-4F2B-8E23-9B2C8AE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F73-B99A-4313-8D68-B1AED3D3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35A-DB02-41DF-B0EF-EE0D862181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esentation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descrip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9291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42:39Z</dcterms:modified>
  <cp:revision>722</cp:revision>
  <dc:subject/>
  <dc:title>Diapositiva 1</dc:title>
</cp:coreProperties>
</file>