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39B-8C60-4DA2-B6F1-AA7A6492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715-173B-4441-9CC2-46E80BD3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F27D-11F2-4C15-86F9-FA92481F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411-5CF1-423E-8FF9-E2DA928D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99CC-848A-451C-8793-1EB7120D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63D-7820-454F-806D-3D2C0B56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82F-E823-47BA-95C9-F8885C4D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9C6E-7F48-4C03-90FD-FA707CB0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4D3-4109-4516-A3DF-918C39A1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434-D2BA-460D-9115-A57E747B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2195-A806-420A-B815-A054ACFC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E35-A59A-49D7-BDB1-D6497DEF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F50D-4797-4F69-A115-76661857B7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24360" y="4292640"/>
            <a:ext cx="468000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3956040" y="509760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786120" y="5786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763640"/>
            <a:ext cx="4628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2143080"/>
            <a:ext cx="1285920" cy="5716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714760"/>
            <a:ext cx="1285920" cy="57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857760"/>
            <a:ext cx="1285920" cy="57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4429080"/>
            <a:ext cx="1285920" cy="571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5000760"/>
            <a:ext cx="1285920" cy="57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572080"/>
            <a:ext cx="1285920" cy="571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3286080"/>
            <a:ext cx="1285920" cy="571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-1</cp:lastModifiedBy>
  <dcterms:modified xsi:type="dcterms:W3CDTF">2016-04-11T11:08:29Z</dcterms:modified>
  <cp:revision>758</cp:revision>
  <dc:subject/>
  <dc:title>Diapositiva 1</dc:title>
</cp:coreProperties>
</file>