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1F7-66F9-4CCD-A473-875C1413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2AC-FBD5-4BAE-AFBF-B8CA64F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883-2152-4F8A-9F28-DA68FF67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AE2-F965-4F67-94EC-8AD29C58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393-28BA-41C0-A4FC-94FC9D96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074-CA9C-4A0F-927D-0EEA8912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5B2-7076-4461-92AA-5BFB15D2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BD2-564A-4991-B499-C4429E78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025-8360-4222-8FD8-5A53236C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EF9-AFA4-436F-A704-D53B1B4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2D8-6343-4BED-88DD-5A2982B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844-75FB-4063-9498-F7DA2381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9809-1BA5-4B05-A162-F26585AD13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059280" y="487044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1488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8:25Z</dcterms:modified>
  <cp:revision>697</cp:revision>
  <dc:subject/>
  <dc:title>Diapositiva 1</dc:title>
</cp:coreProperties>
</file>