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32D-F45D-43A8-8ECE-7941487A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62F-1F8B-4449-B6C9-9C6C95E4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18E-AC46-4000-86C9-DC30C3A7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716-1FC0-4E7F-A063-BEA04F88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45B-2468-4965-A324-F71627E6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2B3-D97D-4100-83FB-2F0518AB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1AA-1443-4E77-A578-76800BA7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1BD-526E-4068-AB38-FD813A50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8B1-81EA-427D-A51C-AA55F79B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E8C-C74C-482E-AE73-AB134821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431-FB26-4659-994B-EA4E05C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C4D-1717-4E53-8B28-9ED0302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45AE-75B9-4915-8125-CBDA223355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578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154160"/>
            <a:ext cx="462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71760"/>
            <a:ext cx="1285920" cy="42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143080"/>
            <a:ext cx="1285920" cy="428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86080"/>
            <a:ext cx="128592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857760"/>
            <a:ext cx="1285920" cy="42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429080"/>
            <a:ext cx="1285920" cy="428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5000760"/>
            <a:ext cx="1285920" cy="42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714760"/>
            <a:ext cx="1285920" cy="42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928800"/>
            <a:ext cx="4574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413000"/>
            <a:ext cx="1271520" cy="73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1984320"/>
            <a:ext cx="1271520" cy="730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127320"/>
            <a:ext cx="1271520" cy="730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699000"/>
            <a:ext cx="1271520" cy="73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270320"/>
            <a:ext cx="1271520" cy="730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842000"/>
            <a:ext cx="1271520" cy="7300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556000"/>
            <a:ext cx="1271520" cy="73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besat3</cp:lastModifiedBy>
  <dcterms:modified xsi:type="dcterms:W3CDTF">2013-01-14T09:36:11Z</dcterms:modified>
  <cp:revision>59</cp:revision>
  <dc:subject/>
  <dc:title>Texto</dc:title>
</cp:coreProperties>
</file>