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8E5-C23A-42E0-A1F7-55236178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EF2-958E-471F-B359-5DA56FD4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20D-95C3-4E86-A2F2-34F83DA8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10A-97F4-44B3-B666-14661D37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CB8-D248-49DB-BD65-57E6C0D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D65-CBE2-4984-9462-2022A52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6DA-793C-4971-9135-E07148C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AB9-4145-4FA9-8D19-A44C2A97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FB5-D91D-44CB-AC0C-E2E6676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B64-6A73-46F7-ABED-9040F89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898-55A2-45C3-BD9D-5098237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0D6-13DF-4245-ABBD-A4A832EB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5E34-33AD-4C2D-8210-E8E5EDAE45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371592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80808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4356000" y="479736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80808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80808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80808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07196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5:28:40Z</dcterms:modified>
  <cp:revision>707</cp:revision>
  <dc:subject/>
  <dc:title>Diapositiva 1</dc:title>
</cp:coreProperties>
</file>